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158-D9FF-41FA-9260-5B9BCE13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971-F5F6-4A9C-B474-D2660A4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FC5-D8E8-4D1A-BCBB-3F810C7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6B8-5087-48D9-BDEB-C96D6D8F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73538-D6CA-406E-B06B-B49D1AF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738D1-722A-440B-AC87-27513F1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4FAA4-B97D-46A0-9B03-A8586CB6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6E30-4CB7-4762-963D-0F65277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4877-49DF-45BA-A852-B1619F4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59504-CF4E-48D2-988B-3E13CB41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5B821-56C7-4C47-931C-D61FBC0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263-D665-4190-8011-17049026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D84B-20C6-4994-8B6A-4F8AF30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F8E8-B6DE-486C-9CBD-883ED4A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5F0D2-27A0-46CB-AEFA-D27090EB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5A3A-621E-48BF-A2F6-3148A9E0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C72A7-9E98-455D-B103-F9F0E862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566-7167-45D1-8202-30C99E9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07A-4955-4B97-968D-9801D26B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46A-3BDD-4F10-9C5A-09D4F7B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1EB-9CE1-4A57-9974-AF1D3934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E70-2AF7-434A-A396-570176D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D7A-80D1-402D-9D3C-B454BC1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0F7-E59C-4245-A72F-F2832BA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630-63D0-44D3-A290-3237979A9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7C5-BFFE-4718-8701-48EAEC253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The Halogen Fami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The 7</a:t>
            </a:r>
            <a:r>
              <a:rPr b="0" lang="en-US" sz="4800" spc="-1" strike="noStrike" baseline="30000">
                <a:solidFill>
                  <a:srgbClr val="ffffff"/>
                </a:solidFill>
                <a:latin typeface="Monotype Corsiva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 grou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Meet The Fami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Fluorine (F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hlorine (C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Bromine (B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odine (I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Astatine (A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The family is located in the second column from the right side of the periodic t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Halogens on the Periodic Table"/>
          <p:cNvPicPr/>
          <p:nvPr/>
        </p:nvPicPr>
        <p:blipFill>
          <a:blip r:embed="rId2"/>
          <a:stretch/>
        </p:blipFill>
        <p:spPr>
          <a:xfrm>
            <a:off x="3809880" y="1752480"/>
            <a:ext cx="4419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earn About The Famil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ue to their high reactivity, the Halogens cannot be found in nature in native form. They actually come from sal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family likes to visit group 1 a lot, they have 7 electrons on their outer s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id you know that the family’s middle name is nonmeta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Halogens are known for working in the toothpaste, and sanitizing buis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Family Histor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he Halogen Family was used in World War I as a poison gas to kill enemi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Salt is partly made from the fami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he family is also used to treat dise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53:41Z</dcterms:created>
  <dc:creator>tatumadmin</dc:creator>
  <dc:description/>
  <dc:language>en-US</dc:language>
  <cp:lastModifiedBy>tatumadmin</cp:lastModifiedBy>
  <dcterms:modified xsi:type="dcterms:W3CDTF">2009-12-04T21:30:25Z</dcterms:modified>
  <cp:revision>3</cp:revision>
  <dc:subject/>
  <dc:title>The Haolgen </dc:title>
</cp:coreProperties>
</file>